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8.jpeg" ContentType="image/jpeg"/>
  <Override PartName="/ppt/media/image35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7.jpeg" ContentType="image/jpeg"/>
  <Override PartName="/ppt/media/image38.jpeg" ContentType="image/jpeg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B41-B32F-4B07-9B0B-0635164F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824-5B42-4DC0-864E-43A3B7B6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219-277E-43D0-886D-243E66F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429-4D90-418F-8056-00C62305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ADDC-CB21-49DF-9BBF-3080010C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71D1-B7DC-4DF3-A945-843B8BFA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0E80-E5E2-4C2E-97F3-8F737E44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D4EF-85E7-4F1B-B310-6C24B7C4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5B12-F2F1-40C3-BEFA-25B38A6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D855-D60F-4213-8CC5-3F77DA9A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E83A-165C-4D04-B5F4-42800FE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3D2-5E5C-44AB-A195-59CEF688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9EBD-3308-4B7E-AA42-7A0EC920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55BE-86FC-43AD-9691-E53F76E4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6238-C008-4B72-98B6-D347357A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3D52-FC32-4A34-9A6E-DF13A96C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00FB-B111-445C-9C33-69DCB494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324-94B7-4148-978B-F947A536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2D9-6920-49BC-A651-E90C3A14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7BF-4E4F-4A61-9D48-2E80F91A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334-24B8-4C82-AA3B-BB0D4B7B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722-D726-45E5-B5AF-285CBBD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500-2443-4E02-AB8E-3E1E09A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134-F641-4AB1-BAB6-3E15F5D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E335-45C4-410D-8539-4056A949CE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CB92-6E09-4D2F-803F-E92EFFBD62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51.xml"/><Relationship Id="rId25" Type="http://schemas.openxmlformats.org/officeDocument/2006/relationships/slide" Target="slide54.xml"/><Relationship Id="rId26" Type="http://schemas.openxmlformats.org/officeDocument/2006/relationships/image" Target="../media/image2.jpeg"/><Relationship Id="rId27" Type="http://schemas.openxmlformats.org/officeDocument/2006/relationships/image" Target="../media/image3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8f8f8"/>
                </a:solidFill>
                <a:latin typeface="Monotype Corsiva"/>
              </a:rPr>
              <a:t>Кровь и кровообращение</a:t>
            </a:r>
            <a:r>
              <a:rPr b="1" lang="ru-RU" sz="8000" spc="-1" strike="noStrike">
                <a:solidFill>
                  <a:srgbClr val="f8f8f8"/>
                </a:solidFill>
                <a:latin typeface="Monotype Corsiva"/>
              </a:rPr>
              <a:t>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90920" y="43430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нтеллектуальная игра для восьмикласс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j0310560"/>
          <p:cNvPicPr/>
          <p:nvPr/>
        </p:nvPicPr>
        <p:blipFill>
          <a:blip r:embed="rId1"/>
          <a:stretch/>
        </p:blipFill>
        <p:spPr>
          <a:xfrm>
            <a:off x="0" y="3124080"/>
            <a:ext cx="38862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4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7040" y="1371240"/>
            <a:ext cx="861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анспортная фун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нос кислорода и питательных веще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щитная фун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вертываемость кров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5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ему человеку можно вводить в кровь физиологический  раствор, но нельзя  вливать вод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Картинка 16 из 8143"/>
          <p:cNvPicPr/>
          <p:nvPr/>
        </p:nvPicPr>
        <p:blipFill>
          <a:blip r:embed="rId1"/>
          <a:stretch/>
        </p:blipFill>
        <p:spPr>
          <a:xfrm>
            <a:off x="1676520" y="25909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5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38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нтрация солей в клетках крови и в плазме одинаковая. Вода снижает концентрацию солей в плазме. Вода, в следствие диффузии, будет проникать в эритроциты и лейкоциты, снижая концентрацию солей в них. Клетки крови будут набухать и лоп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http://im6-tub.yandex.net/i?id=49073506-12"/>
          <p:cNvPicPr/>
          <p:nvPr/>
        </p:nvPicPr>
        <p:blipFill>
          <a:blip r:embed="rId2"/>
          <a:stretch/>
        </p:blipFill>
        <p:spPr>
          <a:xfrm>
            <a:off x="4572000" y="2286000"/>
            <a:ext cx="4237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Times New Roman"/>
              </a:rPr>
              <a:t>Клетки крови 1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новорожденного эритроцитов в крови больше, чем у взрослого человека. С чем это связа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Mumie"/>
          <p:cNvPicPr/>
          <p:nvPr/>
        </p:nvPicPr>
        <p:blipFill>
          <a:blip r:embed="rId1"/>
          <a:stretch/>
        </p:blipFill>
        <p:spPr>
          <a:xfrm>
            <a:off x="5638680" y="5334120"/>
            <a:ext cx="1600200" cy="132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umie"/>
          <p:cNvPicPr/>
          <p:nvPr/>
        </p:nvPicPr>
        <p:blipFill>
          <a:blip r:embed="rId2"/>
          <a:stretch/>
        </p:blipFill>
        <p:spPr>
          <a:xfrm>
            <a:off x="373392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umie"/>
          <p:cNvPicPr/>
          <p:nvPr/>
        </p:nvPicPr>
        <p:blipFill>
          <a:blip r:embed="rId3"/>
          <a:stretch/>
        </p:blipFill>
        <p:spPr>
          <a:xfrm>
            <a:off x="190512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Mumie"/>
          <p:cNvPicPr/>
          <p:nvPr/>
        </p:nvPicPr>
        <p:blipFill>
          <a:blip r:embed="rId4"/>
          <a:stretch/>
        </p:blipFill>
        <p:spPr>
          <a:xfrm>
            <a:off x="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Mumie"/>
          <p:cNvPicPr/>
          <p:nvPr/>
        </p:nvPicPr>
        <p:blipFill>
          <a:blip r:embed="rId5"/>
          <a:stretch/>
        </p:blipFill>
        <p:spPr>
          <a:xfrm>
            <a:off x="7620120" y="54100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 u="sng">
                <a:solidFill>
                  <a:srgbClr val="99cc00"/>
                </a:solidFill>
                <a:uFillTx/>
                <a:latin typeface="Times New Roman"/>
                <a:hlinkClick r:id="rId1" action="ppaction://hlinksldjump"/>
              </a:rPr>
              <a:t>Клетки крови 1 - Ответ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46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рганизм младенца нуждается в большем количестве эритроцитов, так как очень быстро раст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http://www.isteroids.com/blog/wp-content/uploads/2010/04/use-of-stem-cells-for-modeling-infant-birth-defect.jpg"/>
          <p:cNvPicPr/>
          <p:nvPr/>
        </p:nvPicPr>
        <p:blipFill>
          <a:blip r:embed="rId2"/>
          <a:stretch/>
        </p:blipFill>
        <p:spPr>
          <a:xfrm>
            <a:off x="4495680" y="1905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2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 донорской крови удаляют соли кальция путем добавления веществ, выводящих эти соли в осадок. Зачем это делаю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6" descr="Картинка 19 из 213"/>
          <p:cNvPicPr/>
          <p:nvPr/>
        </p:nvPicPr>
        <p:blipFill>
          <a:blip r:embed="rId1"/>
          <a:stretch/>
        </p:blipFill>
        <p:spPr>
          <a:xfrm>
            <a:off x="4952880" y="1219320"/>
            <a:ext cx="3990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 u="sng">
                <a:solidFill>
                  <a:srgbClr val="99cc00"/>
                </a:solidFill>
                <a:uFillTx/>
                <a:latin typeface="Times New Roman"/>
                <a:hlinkClick r:id="rId1" action="ppaction://hlinksldjump"/>
              </a:rPr>
              <a:t>Клетки крови 2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0" y="837720"/>
            <a:ext cx="4114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норскую кровь переливают людям, которые в этом нуждаются. В результате удаления кальция эта кровь не свертывается и ее можно хранить долгое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Картинка 24 из 213"/>
          <p:cNvPicPr/>
          <p:nvPr/>
        </p:nvPicPr>
        <p:blipFill>
          <a:blip r:embed="rId2"/>
          <a:stretch/>
        </p:blipFill>
        <p:spPr>
          <a:xfrm>
            <a:off x="0" y="1600200"/>
            <a:ext cx="5038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3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кроветворный орган; его основную массу составляют клетки крови. Орган представлен в разных частях организма, и на него приходится около 1,5% массы тела. Он чрезвычайно чувствителен к ионизирующим излучениям, которые оказывают на него отрицательное воздействие. Назовите этот орган и укажите его место в организ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6600"/>
                </a:solidFill>
                <a:latin typeface="Times New Roman"/>
              </a:rPr>
              <a:t>Клетки крови 3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расный костный мозг, который в течение всей жизни сохраняется в губчатом веществе плоских костей (ребрах, грудине, костях таза, черепа), а также позвонков 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инных трубчат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ст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Картинка 18 из 211"/>
          <p:cNvPicPr/>
          <p:nvPr/>
        </p:nvPicPr>
        <p:blipFill>
          <a:blip r:embed="rId1"/>
          <a:stretch/>
        </p:blipFill>
        <p:spPr>
          <a:xfrm>
            <a:off x="4952880" y="36576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4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чему у осьминогов «голубая кровь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Картинка 10 из 57302"/>
          <p:cNvPicPr/>
          <p:nvPr/>
        </p:nvPicPr>
        <p:blipFill>
          <a:blip r:embed="rId1"/>
          <a:stretch/>
        </p:blipFill>
        <p:spPr>
          <a:xfrm>
            <a:off x="3124080" y="16765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8f8f8"/>
                </a:solidFill>
                <a:latin typeface="Monotype Corsiva"/>
              </a:rPr>
              <a:t>Игровое поле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762120"/>
          <a:ext cx="8610480" cy="5927760"/>
        </p:xfrm>
        <a:graphic>
          <a:graphicData uri="http://schemas.openxmlformats.org/drawingml/2006/table">
            <a:tbl>
              <a:tblPr/>
              <a:tblGrid>
                <a:gridCol w="2295360"/>
                <a:gridCol w="1265400"/>
                <a:gridCol w="1261800"/>
                <a:gridCol w="1263960"/>
                <a:gridCol w="1260360"/>
                <a:gridCol w="126360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Плазм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ров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лет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Иммунит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Сердц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Кровоо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d3b"/>
                          </a:solidFill>
                          <a:latin typeface="Times New Roman"/>
                        </a:rPr>
                        <a:t>ращ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3dccff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Рисунок 53" descr="http://im5-tub.yandex.net/i?id=70435203-04"/>
          <p:cNvPicPr/>
          <p:nvPr/>
        </p:nvPicPr>
        <p:blipFill>
          <a:blip r:embed="rId26"/>
          <a:stretch/>
        </p:blipFill>
        <p:spPr>
          <a:xfrm>
            <a:off x="1600200" y="2286000"/>
            <a:ext cx="990720" cy="866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4" descr="http://wfisher11.files.wordpress.com/2010/03/fig21.jpg"/>
          <p:cNvPicPr/>
          <p:nvPr/>
        </p:nvPicPr>
        <p:blipFill>
          <a:blip r:embed="rId27"/>
          <a:srcRect l="8543" t="1594" r="75987" b="0"/>
          <a:stretch/>
        </p:blipFill>
        <p:spPr>
          <a:xfrm>
            <a:off x="457200" y="762120"/>
            <a:ext cx="638280" cy="990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5" descr="http://im0-tub.yandex.net/i?id=79949224-02"/>
          <p:cNvPicPr/>
          <p:nvPr/>
        </p:nvPicPr>
        <p:blipFill>
          <a:blip r:embed="rId28"/>
          <a:stretch/>
        </p:blipFill>
        <p:spPr>
          <a:xfrm>
            <a:off x="914400" y="3276720"/>
            <a:ext cx="1085760" cy="850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6" descr="http://im0-tub.yandex.net/i?id=22378167-14"/>
          <p:cNvPicPr/>
          <p:nvPr/>
        </p:nvPicPr>
        <p:blipFill>
          <a:blip r:embed="rId29"/>
          <a:stretch/>
        </p:blipFill>
        <p:spPr>
          <a:xfrm>
            <a:off x="304920" y="4876920"/>
            <a:ext cx="1022400" cy="838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7" descr="http://im2-tub.yandex.net/i?id=112797627-11"/>
          <p:cNvPicPr/>
          <p:nvPr/>
        </p:nvPicPr>
        <p:blipFill>
          <a:blip r:embed="rId30"/>
          <a:stretch/>
        </p:blipFill>
        <p:spPr>
          <a:xfrm>
            <a:off x="1600200" y="5638680"/>
            <a:ext cx="96192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6600"/>
                </a:solidFill>
                <a:latin typeface="Times New Roman"/>
              </a:rPr>
              <a:t>Клетки крови 4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о железа в состав крови у них входит ме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Картинка 15 из 57302"/>
          <p:cNvPicPr/>
          <p:nvPr/>
        </p:nvPicPr>
        <p:blipFill>
          <a:blip r:embed="rId1"/>
          <a:stretch/>
        </p:blipFill>
        <p:spPr>
          <a:xfrm>
            <a:off x="3200400" y="2209680"/>
            <a:ext cx="5715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cc6600"/>
                </a:solidFill>
                <a:latin typeface="Times New Roman"/>
              </a:rPr>
              <a:t>Клетки крови 5</a:t>
            </a:r>
            <a:endParaRPr b="1" lang="en-US" sz="5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46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кого больше лейкоцитов – у плохо питающихся или нормально питающихся люде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Картинка 30 из 16446"/>
          <p:cNvPicPr/>
          <p:nvPr/>
        </p:nvPicPr>
        <p:blipFill>
          <a:blip r:embed="rId1"/>
          <a:stretch/>
        </p:blipFill>
        <p:spPr>
          <a:xfrm>
            <a:off x="4648320" y="990720"/>
            <a:ext cx="42195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c6600"/>
                </a:solidFill>
                <a:latin typeface="Times New Roman"/>
              </a:rPr>
              <a:t>Клетки крови 5 - Ответ</a:t>
            </a:r>
            <a:endParaRPr b="1" lang="en-US" sz="49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4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нормально питающихся людей лейкоцит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льш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Картинка 9 из 22320"/>
          <p:cNvPicPr/>
          <p:nvPr/>
        </p:nvPicPr>
        <p:blipFill>
          <a:blip r:embed="rId1"/>
          <a:stretch/>
        </p:blipFill>
        <p:spPr>
          <a:xfrm>
            <a:off x="3733920" y="2362320"/>
            <a:ext cx="5238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Картинка 31 из 1015"/>
          <p:cNvPicPr/>
          <p:nvPr/>
        </p:nvPicPr>
        <p:blipFill>
          <a:blip r:embed="rId1"/>
          <a:stretch/>
        </p:blipFill>
        <p:spPr>
          <a:xfrm rot="1089000">
            <a:off x="561600" y="1600200"/>
            <a:ext cx="5208480" cy="3906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1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7960" y="45716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e99ff"/>
                </a:solidFill>
                <a:latin typeface="Arial"/>
              </a:rPr>
              <a:t>Что такое иммунитет? Зачем он нужен челове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1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299587"/>
          <p:cNvPicPr/>
          <p:nvPr/>
        </p:nvPicPr>
        <p:blipFill>
          <a:blip r:embed="rId1"/>
          <a:stretch/>
        </p:blipFill>
        <p:spPr>
          <a:xfrm>
            <a:off x="2971800" y="685800"/>
            <a:ext cx="5867280" cy="5856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ем вакцина отличается от лечебной сыворотки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2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e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3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 время эпидемии оспы в Брэгвилле ковбой Джо заявил, что он переболел оспой и теперь она ему не страшна. Ковбой Билл ответил, что он не болел оспой и не заболеет, так как пережил уже не одну эпидемию. Если верить ковбоям, то они обладают иммунитетом. Какой иммунитет у Джо и какой иммунитет у Бил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3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Джо иммунитет естественный приобретенный, а у Билла – естественный врожденны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http://t3.gstatic.com/images?q=tbn:ANd9GcRWKYiIsfLoDfUBeJU7xM623K-KcUtsZkXXRyzMBvZlDeazFRE&amp;t=1&amp;usg=___ug6iv2P3WYTqymS5zS1xBhpBtA="/>
          <p:cNvPicPr/>
          <p:nvPr/>
        </p:nvPicPr>
        <p:blipFill>
          <a:blip r:embed="rId1"/>
          <a:stretch/>
        </p:blipFill>
        <p:spPr>
          <a:xfrm>
            <a:off x="4952880" y="3657600"/>
            <a:ext cx="3962520" cy="2968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http://s61.radikal.ru/i172/0905/c0/dae9eab5ae8c.jpg"/>
          <p:cNvPicPr/>
          <p:nvPr/>
        </p:nvPicPr>
        <p:blipFill>
          <a:blip r:embed="rId2"/>
          <a:stretch/>
        </p:blipFill>
        <p:spPr>
          <a:xfrm>
            <a:off x="533520" y="3657600"/>
            <a:ext cx="39621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4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232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e99ff"/>
                </a:solidFill>
                <a:latin typeface="Arial"/>
              </a:rPr>
              <a:t>Как можно установить к чему именно у человека аллерг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j0231766"/>
          <p:cNvPicPr/>
          <p:nvPr/>
        </p:nvPicPr>
        <p:blipFill>
          <a:blip r:embed="rId1"/>
          <a:srcRect l="0" t="0" r="54747" b="26509"/>
          <a:stretch/>
        </p:blipFill>
        <p:spPr>
          <a:xfrm>
            <a:off x="304920" y="1905120"/>
            <a:ext cx="35812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1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цв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меет плазма кров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Клип 7" descr="http://wfisher11.files.wordpress.com/2010/03/fig21.jpg"/>
          <p:cNvPicPr/>
          <p:nvPr/>
        </p:nvPicPr>
        <p:blipFill>
          <a:blip r:embed="rId1"/>
          <a:srcRect l="8543" t="1594" r="75987" b="0"/>
          <a:stretch/>
        </p:blipFill>
        <p:spPr>
          <a:xfrm>
            <a:off x="6248520" y="1905120"/>
            <a:ext cx="1828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4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353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7f"/>
                </a:solidFill>
                <a:latin typeface="Times New Roman"/>
              </a:rPr>
              <a:t>Иммунитет 5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537f"/>
                </a:solidFill>
                <a:latin typeface="Arial"/>
              </a:rPr>
              <a:t>В литературе описаны многочисленные случаи, когда люди не чувствовали боли. Так, одна американка могла спокойно взять с плиты горячую кастрюлю или сковороду, даже не подозревая, что у других это должно быть причиной нестерпимой бол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e99ff"/>
                </a:solidFill>
                <a:latin typeface="Arial"/>
              </a:rPr>
              <a:t>Зачем нужна боль? Чем опасно ее отсутств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Иммунитет 5 - Ответ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27040" y="2057040"/>
            <a:ext cx="861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e99ff"/>
                </a:solidFill>
                <a:latin typeface="Arial"/>
              </a:rPr>
              <a:t>Боль – это сигнал опас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для нашего организма. Наличие боли показывает нам, что в организме не все в порядк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Незамеченные раны и ожог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Наличие  внутренних кровотечений и воспалений органов (аппендицит)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Наличие заболеваний (рак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Сердце 1 </a:t>
            </a:r>
            <a:br>
              <a:rPr sz="6000"/>
            </a:b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16400" y="18288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человек не чувствует запаха, когда простуже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_41468436_sneezing203"/>
          <p:cNvPicPr/>
          <p:nvPr/>
        </p:nvPicPr>
        <p:blipFill>
          <a:blip r:embed="rId1"/>
          <a:stretch/>
        </p:blipFill>
        <p:spPr>
          <a:xfrm>
            <a:off x="304920" y="1905120"/>
            <a:ext cx="4724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1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ловек не чувствует запахов, когда простужен потому, что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обонятельные рецепторы у него не контактируют с молекулами пахучих веществ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з – за насморка, сопровождающего простуд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2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0" y="15238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чему стенка правого предсердия тоньше, чем стенка левог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6" descr="http://www.kardio.ru/images2/cor11.jpg"/>
          <p:cNvPicPr/>
          <p:nvPr/>
        </p:nvPicPr>
        <p:blipFill>
          <a:blip r:embed="rId1"/>
          <a:stretch/>
        </p:blipFill>
        <p:spPr>
          <a:xfrm>
            <a:off x="374760" y="1600200"/>
            <a:ext cx="444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2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овь от правого предсердия идет по малому кругу кровообращения, а от левого – к большому. Поэтому сила выброса крови в левом желудочке должна быть больше, а значит мышечная стенка должна быть развита лучш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 3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людей злоупотребляющих пивом сердце большое. Почему? Хорошо это или плох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http://i587.photobucket.com/albums/ss315/inschrift/_______174.jpg"/>
          <p:cNvPicPr/>
          <p:nvPr/>
        </p:nvPicPr>
        <p:blipFill>
          <a:blip r:embed="rId1"/>
          <a:stretch/>
        </p:blipFill>
        <p:spPr>
          <a:xfrm>
            <a:off x="3581280" y="3416400"/>
            <a:ext cx="45720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 3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людей злоупотребляющих пивом сердце большое за счет ожирения. Волокна сердечной мышцы частично разрушаются и заменяются соединительной (жировой) тканью. Такая ткань сокращаться не может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888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4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жно ли сохранить сердце отдельно от организма, если пропускать через него солевой раство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http://www.segodnya.ua/img/forall/a/140399/73.jpg"/>
          <p:cNvPicPr/>
          <p:nvPr/>
        </p:nvPicPr>
        <p:blipFill>
          <a:blip r:embed="rId1"/>
          <a:stretch/>
        </p:blipFill>
        <p:spPr>
          <a:xfrm>
            <a:off x="4724280" y="1523880"/>
            <a:ext cx="4267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1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53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лазма крови имеет желтоват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Клип 7" descr="http://wfisher11.files.wordpress.com/2010/03/fig21.jpg"/>
          <p:cNvPicPr/>
          <p:nvPr/>
        </p:nvPicPr>
        <p:blipFill>
          <a:blip r:embed="rId2"/>
          <a:srcRect l="8543" t="1594" r="75987" b="0"/>
          <a:stretch/>
        </p:blipFill>
        <p:spPr>
          <a:xfrm>
            <a:off x="7010280" y="1219320"/>
            <a:ext cx="1954440" cy="4038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http://im3-tub.yandex.net/i?id=107461914-00"/>
          <p:cNvPicPr/>
          <p:nvPr/>
        </p:nvPicPr>
        <p:blipFill>
          <a:blip r:embed="rId3"/>
          <a:stretch/>
        </p:blipFill>
        <p:spPr>
          <a:xfrm>
            <a:off x="2133720" y="3809880"/>
            <a:ext cx="350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4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. Сердц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лад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номи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б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http://cardiophile.com/wp-content/uploads/2008/01/heart-in-hands.jpg"/>
          <p:cNvPicPr/>
          <p:nvPr/>
        </p:nvPicPr>
        <p:blipFill>
          <a:blip r:embed="rId1"/>
          <a:stretch/>
        </p:blipFill>
        <p:spPr>
          <a:xfrm>
            <a:off x="3962520" y="1600200"/>
            <a:ext cx="4762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5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4" name="Picture 6" descr="j0298897"/>
          <p:cNvPicPr/>
          <p:nvPr/>
        </p:nvPicPr>
        <p:blipFill>
          <a:blip r:embed="rId1"/>
          <a:stretch/>
        </p:blipFill>
        <p:spPr>
          <a:xfrm>
            <a:off x="4343400" y="2514600"/>
            <a:ext cx="4495680" cy="3927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Сердце  5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038480" y="1143000"/>
            <a:ext cx="510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1" descr="DSCN2097"/>
          <p:cNvPicPr/>
          <p:nvPr/>
        </p:nvPicPr>
        <p:blipFill>
          <a:blip r:embed="rId1"/>
          <a:stretch/>
        </p:blipFill>
        <p:spPr>
          <a:xfrm>
            <a:off x="380880" y="1295280"/>
            <a:ext cx="3353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9d9ff"/>
                </a:solidFill>
                <a:latin typeface="Comic Sans MS"/>
              </a:rPr>
              <a:t>Кровообращение 1 </a:t>
            </a:r>
            <a:br>
              <a:rPr sz="5400"/>
            </a:b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0" name="Picture 6" descr="j0199301"/>
          <p:cNvPicPr/>
          <p:nvPr/>
        </p:nvPicPr>
        <p:blipFill>
          <a:blip r:embed="rId1"/>
          <a:stretch/>
        </p:blipFill>
        <p:spPr>
          <a:xfrm>
            <a:off x="2362320" y="1828800"/>
            <a:ext cx="6781680" cy="40561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систему кровообращения называют «транспортной системой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1 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Органы кровообращения доставляют кислород к тканям и органам и уносят продукты обмена вещест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DSCN2093"/>
          <p:cNvPicPr/>
          <p:nvPr/>
        </p:nvPicPr>
        <p:blipFill>
          <a:blip r:embed="rId1"/>
          <a:srcRect l="24172" t="22589" r="25387" b="22802"/>
          <a:stretch/>
        </p:blipFill>
        <p:spPr>
          <a:xfrm>
            <a:off x="4267080" y="1828800"/>
            <a:ext cx="4648320" cy="37735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2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давление в венах ниже, чем в артерия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2 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f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DSCN2093"/>
          <p:cNvPicPr/>
          <p:nvPr/>
        </p:nvPicPr>
        <p:blipFill>
          <a:blip r:embed="rId1"/>
          <a:srcRect l="24172" t="22592" r="25385" b="22803"/>
          <a:stretch/>
        </p:blipFill>
        <p:spPr>
          <a:xfrm>
            <a:off x="4114800" y="1371600"/>
            <a:ext cx="4730760" cy="3546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d9ff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3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гда ли по артериям течет только артериальная кров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200400" y="6172200"/>
            <a:ext cx="1066680" cy="457200"/>
          </a:xfrm>
          <a:prstGeom prst="can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4167 0.02454 C 0.04445 0.00417 0.04289 -0.00486 0.05504 -0.01551 C 0.05712 -0.02453 0.06164 -0.02662 0.06667 -0.03333 C 0.06875 -0.04398 0.06684 -0.04768 0.075 -0.05092 C 0.07605 -0.05254 0.07691 -0.05439 0.0783 -0.05555 C 0.07986 -0.05671 0.08212 -0.05602 0.08334 -0.05764 C 0.09289 -0.0699 0.07639 -0.06018 0.08993 -0.06666 C 0.13386 -0.06365 0.11875 -0.07268 0.13993 -0.04444 C 0.14202 -0.03634 0.14792 -0.03032 0.15 -0.02222 C 0.15226 -0.01365 0.15348 -0.00578 0.1566 0.00232 C 0.15157 0.0257 0.15139 0.02153 0.13334 0.02454 C 0.12726 0.02385 0.12084 0.02454 0.11493 0.02223 C 0.11094 0.02084 0.1073 0.00718 0.10174 0.00232 C 0.10278 -0.0125 0.10365 -0.02731 0.10504 -0.04213 C 0.10521 -0.04444 0.10539 -0.04722 0.1066 -0.04884 C 0.10938 -0.05254 0.11337 -0.05463 0.11667 -0.05764 C 0.11841 -0.05902 0.1217 -0.06203 0.1217 -0.0618 C 0.12848 -0.07592 0.12327 -0.06736 0.14167 -0.08217 C 0.15851 -0.09583 0.17448 -0.1037 0.19341 -0.11111 C 0.21285 -0.10949 0.23247 -0.10949 0.25174 -0.10648 C 0.28091 -0.10208 0.25521 -0.10162 0.275 -0.09328 C 0.27934 -0.09143 0.28386 -0.09166 0.28837 -0.09097 C 0.29063 -0.08958 0.29271 -0.08773 0.29497 -0.08657 C 0.29827 -0.08495 0.30504 -0.08217 0.30504 -0.08194 C 0.33559 -0.05555 0.36459 -0.03611 0.40174 -0.03102 C 0.41111 -0.03171 0.42066 -0.03148 0.43004 -0.03333 C 0.43247 -0.03379 0.4342 -0.0368 0.43664 -0.03773 C 0.43993 -0.03889 0.44341 -0.03912 0.4467 -0.03981 C 0.46094 -0.04629 0.45278 -0.07615 0.45174 -0.09097 C 0.45087 -0.10486 0.42605 -0.11666 0.41667 -0.1199 C 0.40955 -0.12708 0.4033 -0.13102 0.39497 -0.13541 C 0.38559 -0.13402 0.37587 -0.13426 0.36667 -0.13102 C 0.36476 -0.13032 0.36424 -0.12662 0.36337 -0.1243 C 0.35973 -0.11481 0.35886 -0.10115 0.3566 -0.09097 C 0.36094 -0.07939 0.36129 -0.07477 0.36997 -0.07106 C 0.37813 -0.05463 0.39271 -0.05671 0.4066 -0.05555 C 0.52865 -0.05879 0.45504 -0.04676 0.49341 -0.06435 C 0.49844 -0.07453 0.49931 -0.06967 0.50504 -0.07777 C 0.50851 -0.09236 0.50382 -0.07523 0.51164 -0.09328 C 0.51459 -0.1 0.51511 -0.1081 0.51667 -0.11551 C 0.51389 -0.16898 0.5165 -0.19027 0.49497 -0.2287 C 0.48507 -0.24629 0.49271 -0.23819 0.48334 -0.24652 C 0.479 -0.25532 0.48091 -0.25879 0.47327 -0.26203 C 0.46945 -0.26736 0.46545 -0.27245 0.46164 -0.27777 C 0.4599 -0.28009 0.4573 -0.28102 0.45504 -0.28217 C 0.45348 -0.2831 0.45122 -0.28264 0.45 -0.28426 C 0.44914 -0.28541 0.45 -0.28727 0.45 -0.28889 E">
                                      <p:cBhvr>
                                        <p:cTn id="6" dur="5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3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53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т. По легочной артерии течет венозная кров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10" descr="66_2"/>
          <p:cNvPicPr/>
          <p:nvPr/>
        </p:nvPicPr>
        <p:blipFill>
          <a:blip r:embed="rId1"/>
          <a:stretch/>
        </p:blipFill>
        <p:spPr>
          <a:xfrm>
            <a:off x="4800600" y="182880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4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ть ли в пределах кровеносной системы сеть капилляров между двумя артериями? Если «да», то укажите г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2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724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состав име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зма кров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d9d9ff"/>
                </a:solidFill>
                <a:latin typeface="Comic Sans MS"/>
              </a:rPr>
              <a:t>Кровообращение 4- Ответ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53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ть. Почечный клубочек в почечной капсул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0" descr="66_2"/>
          <p:cNvPicPr/>
          <p:nvPr/>
        </p:nvPicPr>
        <p:blipFill>
          <a:blip r:embed="rId1"/>
          <a:stretch/>
        </p:blipFill>
        <p:spPr>
          <a:xfrm>
            <a:off x="4800600" y="182880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3537f"/>
                </a:solidFill>
                <a:latin typeface="Comic Sans MS"/>
              </a:rPr>
              <a:t>Кот в мешке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2" name="Picture 3" descr="053-56"/>
          <p:cNvPicPr/>
          <p:nvPr/>
        </p:nvPicPr>
        <p:blipFill>
          <a:blip r:embed="rId1"/>
          <a:stretch/>
        </p:blipFill>
        <p:spPr>
          <a:xfrm>
            <a:off x="1981080" y="1143000"/>
            <a:ext cx="5105520" cy="3551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7f"/>
                </a:solidFill>
                <a:latin typeface="Comic Sans MS"/>
              </a:rPr>
              <a:t>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762120"/>
            <a:ext cx="8842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384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альпинисты предпочитают носить солнцезащитные очки с зелеными стекл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7" descr="s017"/>
          <p:cNvPicPr/>
          <p:nvPr/>
        </p:nvPicPr>
        <p:blipFill>
          <a:blip r:embed="rId1"/>
          <a:stretch/>
        </p:blipFill>
        <p:spPr>
          <a:xfrm>
            <a:off x="5334120" y="1828800"/>
            <a:ext cx="32115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d9ff"/>
                </a:solidFill>
                <a:latin typeface="Comic Sans MS"/>
              </a:rPr>
              <a:t>Ответ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чки спасают </a:t>
            </a:r>
            <a:r>
              <a:rPr b="0" lang="ru-RU" sz="3800" spc="-1" strike="noStrike">
                <a:solidFill>
                  <a:srgbClr val="53537f"/>
                </a:solidFill>
                <a:latin typeface="Arial"/>
              </a:rPr>
              <a:t>от солнечных ожогов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, задерживая избыток ультрафиолетовых луче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омогают приобрести душевное равновесие. Для альпинистов зеленый – </a:t>
            </a:r>
            <a:r>
              <a:rPr b="0" lang="ru-RU" sz="3800" spc="-1" strike="noStrike">
                <a:solidFill>
                  <a:srgbClr val="53537f"/>
                </a:solidFill>
                <a:latin typeface="Arial"/>
              </a:rPr>
              <a:t>цвет безопасности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. При спуске с горы – добрался до зоны зеленого леса значит все сложности позад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3537f"/>
                </a:solidFill>
                <a:latin typeface="Comic Sans MS"/>
              </a:rPr>
              <a:t>Кот в мешке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0" name="Picture 8" descr="053-56"/>
          <p:cNvPicPr/>
          <p:nvPr/>
        </p:nvPicPr>
        <p:blipFill>
          <a:blip r:embed="rId1"/>
          <a:stretch/>
        </p:blipFill>
        <p:spPr>
          <a:xfrm>
            <a:off x="1981080" y="1143000"/>
            <a:ext cx="5105520" cy="35514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537f"/>
                </a:solidFill>
                <a:latin typeface="Comic Sans MS"/>
              </a:rPr>
              <a:t>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495320" y="1905120"/>
            <a:ext cx="434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ля чего на денежных купюрах нужны «точки и тире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537f"/>
                </a:solidFill>
                <a:latin typeface="Comic Sans MS"/>
              </a:rPr>
              <a:t>Позови, и я на помощь приду</a:t>
            </a:r>
            <a:br>
              <a:rPr sz="60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4" name="Picture 7" descr="DSCN2133"/>
          <p:cNvPicPr/>
          <p:nvPr/>
        </p:nvPicPr>
        <p:blipFill>
          <a:blip r:embed="rId1"/>
          <a:srcRect l="19403" t="4747" r="39857" b="0"/>
          <a:stretch/>
        </p:blipFill>
        <p:spPr>
          <a:xfrm>
            <a:off x="685800" y="1523880"/>
            <a:ext cx="3124080" cy="4862520"/>
          </a:xfrm>
          <a:prstGeom prst="rect">
            <a:avLst/>
          </a:prstGeom>
          <a:ln w="0">
            <a:noFill/>
          </a:ln>
        </p:spPr>
      </p:pic>
      <p:sp>
        <p:nvSpPr>
          <p:cNvPr id="255" name="Oval 8"/>
          <p:cNvSpPr/>
          <p:nvPr/>
        </p:nvSpPr>
        <p:spPr>
          <a:xfrm>
            <a:off x="1523880" y="4267080"/>
            <a:ext cx="762120" cy="609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1143000" y="3124080"/>
            <a:ext cx="762120" cy="609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10"/>
          <p:cNvSpPr/>
          <p:nvPr/>
        </p:nvSpPr>
        <p:spPr>
          <a:xfrm>
            <a:off x="2590920" y="5562720"/>
            <a:ext cx="761760" cy="6094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2209680" y="4952880"/>
            <a:ext cx="762120" cy="60984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9d9ff"/>
                </a:solidFill>
                <a:latin typeface="Comic Sans MS"/>
              </a:rPr>
              <a:t>Ответ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Точки и тире» служат для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распознава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номинала денежных купюр </a:t>
            </a:r>
            <a:r>
              <a:rPr b="0" lang="ru-RU" sz="3600" spc="-1" strike="noStrike">
                <a:solidFill>
                  <a:srgbClr val="53537f"/>
                </a:solidFill>
                <a:latin typeface="Arial"/>
              </a:rPr>
              <a:t>слабовидящими людьм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поэтому их поверхность вдавле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6" descr="DSCN2133"/>
          <p:cNvPicPr/>
          <p:nvPr/>
        </p:nvPicPr>
        <p:blipFill>
          <a:blip r:embed="rId1"/>
          <a:srcRect l="19402" t="4744" r="39855" b="0"/>
          <a:stretch/>
        </p:blipFill>
        <p:spPr>
          <a:xfrm>
            <a:off x="5181480" y="1676520"/>
            <a:ext cx="36975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2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ло 0,9% плазмы приходится на поваренную соль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соли калия, кальция, фосфорной кислоты. Около 7% плазмы составляют белки (альбумины, глобулины, фибриноген). А также углекислый газ, глюкоза, питательные вещества и продукты расп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3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99ff66"/>
                </a:solidFill>
                <a:uFillTx/>
                <a:latin typeface="Monotype Corsiva"/>
                <a:hlinkClick r:id="rId1" action="ppaction://hlinksldjump"/>
              </a:rPr>
              <a:t>Плазма крови 3 - Ответ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Monotype Corsiva"/>
              </a:rPr>
              <a:t>Плазма крови 4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ую функцию в плазме выполняют бел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PC</cp:lastModifiedBy>
  <dcterms:modified xsi:type="dcterms:W3CDTF">2014-02-11T17:51:3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